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8274B4-4AE7-4E03-A50C-0F22199F13D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3940E0-501E-495C-862C-99167F3A6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52E59D-9DF7-4A3C-9227-319F52D99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DC0F48-08DE-4819-92DD-BD54B173A7A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9993A7-BC6B-424F-9AA9-CE5803ACD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B5FBD9-D94E-4F11-8BE2-18FBF53F3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3A0A70-326B-4FA8-9EF1-873FCF6F1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D10A13-386C-4952-AFD1-0952E76A7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2D52BF-2CFE-4225-8596-580365747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A294FD-37F3-4C9F-8453-4CD2C8309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210156-C5B0-4207-8094-E2CE79B15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AC743F-1874-435B-90E8-D0BF362EB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FC0EC-FFDF-455F-9E91-0DBA4698866E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iecool.com/vector/show/100/49907.htm" TargetMode="Externa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iecool.com/vector/show/97/48515.htm" TargetMode="External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9640" y="2205000"/>
            <a:ext cx="7777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6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三章 常见症状评估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Verdana"/>
                <a:ea typeface="黑体"/>
              </a:rPr>
              <a:t>发热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热型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Rectangle 4"/>
          <p:cNvSpPr/>
          <p:nvPr/>
        </p:nvSpPr>
        <p:spPr>
          <a:xfrm>
            <a:off x="3852720" y="1917720"/>
            <a:ext cx="31687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稽留热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弛张热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间歇热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回归热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波状热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不规则热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AutoShape 5"/>
          <p:cNvSpPr/>
          <p:nvPr/>
        </p:nvSpPr>
        <p:spPr>
          <a:xfrm>
            <a:off x="1044720" y="3213000"/>
            <a:ext cx="2590560" cy="1441440"/>
          </a:xfrm>
          <a:prstGeom prst="flowChartAlternateProcess">
            <a:avLst/>
          </a:pr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各种体温曲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线的形态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AutoShape 6"/>
          <p:cNvSpPr/>
          <p:nvPr/>
        </p:nvSpPr>
        <p:spPr>
          <a:xfrm>
            <a:off x="3852720" y="2565360"/>
            <a:ext cx="142920" cy="2952720"/>
          </a:xfrm>
          <a:custGeom>
            <a:avLst/>
            <a:gdLst>
              <a:gd name="textAreaLeft" fmla="*/ 91440 w 142920"/>
              <a:gd name="textAreaRight" fmla="*/ 143280 w 142920"/>
              <a:gd name="textAreaTop" fmla="*/ 76680 h 2952720"/>
              <a:gd name="textAreaBottom" fmla="*/ 2876040 h 295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7502"/>
                </a:lnTo>
                <a:cubicBezTo>
                  <a:pt x="10800" y="8402"/>
                  <a:pt x="5400" y="9302"/>
                  <a:pt x="0" y="9302"/>
                </a:cubicBezTo>
                <a:cubicBezTo>
                  <a:pt x="5400" y="9302"/>
                  <a:pt x="10800" y="10202"/>
                  <a:pt x="10800" y="11102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3" name="Picture 7" descr=""/>
          <p:cNvPicPr/>
          <p:nvPr/>
        </p:nvPicPr>
        <p:blipFill>
          <a:blip r:embed="rId1"/>
          <a:srcRect l="4137" t="19210" r="1666" b="12543"/>
          <a:stretch/>
        </p:blipFill>
        <p:spPr>
          <a:xfrm>
            <a:off x="6588000" y="5302080"/>
            <a:ext cx="2374920" cy="11494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稽留热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特点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:39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宋体"/>
              </a:rPr>
              <a:t>～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40℃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以上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持续数日、数周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,24h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波动＜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℃;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见于伤寒、大叶性肺炎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6" name="图片 31" descr=""/>
          <p:cNvPicPr/>
          <p:nvPr/>
        </p:nvPicPr>
        <p:blipFill>
          <a:blip r:embed="rId1"/>
          <a:srcRect l="0" t="0" r="0" b="10674"/>
          <a:stretch/>
        </p:blipFill>
        <p:spPr>
          <a:xfrm>
            <a:off x="527040" y="2781360"/>
            <a:ext cx="8005680" cy="354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弛张热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特点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:39℃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以上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,24h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波动</a:t>
            </a:r>
            <a:r>
              <a:rPr b="0" lang="zh-CN" sz="3600" spc="-1" strike="noStrike">
                <a:solidFill>
                  <a:srgbClr val="000000"/>
                </a:solidFill>
                <a:latin typeface="Verdana"/>
                <a:ea typeface="宋体"/>
              </a:rPr>
              <a:t>＞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℃,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但在正常水平以上，见于败血症、化脓性感染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49" name="图片 39" descr=""/>
          <p:cNvPicPr/>
          <p:nvPr/>
        </p:nvPicPr>
        <p:blipFill>
          <a:blip r:embed="rId1"/>
          <a:srcRect l="0" t="0" r="0" b="6980"/>
          <a:stretch/>
        </p:blipFill>
        <p:spPr>
          <a:xfrm>
            <a:off x="468360" y="2852640"/>
            <a:ext cx="787572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间歇热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特点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骤升达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39.0℃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以上持续数小时后下降至正常。高热与无热交替反复发生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2" name="图片 46" descr=""/>
          <p:cNvPicPr/>
          <p:nvPr/>
        </p:nvPicPr>
        <p:blipFill>
          <a:blip r:embed="rId1"/>
          <a:srcRect l="0" t="0" r="0" b="9459"/>
          <a:stretch/>
        </p:blipFill>
        <p:spPr>
          <a:xfrm>
            <a:off x="684360" y="2781360"/>
            <a:ext cx="7920000" cy="36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回归热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特点：骤升达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39℃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以上，持续数日，骤降至正常水平，见于回归热、霍奇金病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5" name="图片 16" descr=""/>
          <p:cNvPicPr/>
          <p:nvPr/>
        </p:nvPicPr>
        <p:blipFill>
          <a:blip r:embed="rId1"/>
          <a:srcRect l="0" t="0" r="0" b="10795"/>
          <a:stretch/>
        </p:blipFill>
        <p:spPr>
          <a:xfrm>
            <a:off x="828720" y="2781360"/>
            <a:ext cx="7823160" cy="35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波状热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特点：渐升≥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39℃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，持续数日降至正常水平，反复发生，“反复发热”，见于布鲁菌病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8" name="图片 27" descr=""/>
          <p:cNvPicPr/>
          <p:nvPr/>
        </p:nvPicPr>
        <p:blipFill>
          <a:blip r:embed="rId1"/>
          <a:srcRect l="0" t="0" r="0" b="11125"/>
          <a:stretch/>
        </p:blipFill>
        <p:spPr>
          <a:xfrm>
            <a:off x="971640" y="3213000"/>
            <a:ext cx="7416720" cy="32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不规则热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特点：无规律，见于结核病、风湿热、支气管肺炎、肿瘤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61" name="图片 25" descr=""/>
          <p:cNvPicPr/>
          <p:nvPr/>
        </p:nvPicPr>
        <p:blipFill>
          <a:blip r:embed="rId1"/>
          <a:srcRect l="0" t="0" r="0" b="10988"/>
          <a:stretch/>
        </p:blipFill>
        <p:spPr>
          <a:xfrm>
            <a:off x="612720" y="2709720"/>
            <a:ext cx="792180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2" name=""/>
          <p:cNvGraphicFramePr/>
          <p:nvPr/>
        </p:nvGraphicFramePr>
        <p:xfrm>
          <a:off x="304920" y="1371600"/>
          <a:ext cx="8610480" cy="5022720"/>
        </p:xfrm>
        <a:graphic>
          <a:graphicData uri="http://schemas.openxmlformats.org/drawingml/2006/table">
            <a:tbl>
              <a:tblPr/>
              <a:tblGrid>
                <a:gridCol w="1447560"/>
                <a:gridCol w="716292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热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常见疾病及临床特点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2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稽留热 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常见于肺炎球菌性肺炎高热期，伤寒极期。 特点：体温持续在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39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40℃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以上，达数天或数周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24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小时内波动范围＜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℃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701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弛张热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常见于败血症、严重化脓性感染、重症肺结核等。特点：体温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39℃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24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小时内波动范围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2℃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，但体温最低时仍高于正常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05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间歇热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常见于疟疾、急性肾盂肾炎等。特点：骤升达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39℃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以上持续数小时骤降至正常，无热期可持续一天或数天后，体温又突然升高，高热期与无热期反复交替出现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1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回归热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常见于回归热、霍奇金淋巴瘤等。特点：骤升至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39℃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或以上，持续数天后又骤降至正常水平，数日后又骤升至高热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7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波状热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常见于布氏杆菌病。特点：渐升至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39℃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或以上，数日后又逐渐降至正常水平，持续数日后又逐渐升高，又称“反复发热”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24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不规则热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常见于支气管肺炎、结核病、肿瘤。特点：没有一定规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Verdana"/>
                <a:ea typeface="黑体"/>
              </a:rPr>
              <a:t>发热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Verdana"/>
                <a:ea typeface="黑体"/>
              </a:rPr>
              <a:t>护理评估要点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发热的临床特点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起病缓急、发热程度与热型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病因及诱发因素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伴随症状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伴随症状因病因不同而有所不同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对患者的影响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生理方面；心理方面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6" name="Picture 4" descr="医疗标志矢量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04000" y="4581360"/>
            <a:ext cx="2016000" cy="18306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4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7" dur="5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2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7" dur="5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0" dur="50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5" dur="500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8" dur="500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Verdana"/>
                <a:ea typeface="黑体"/>
              </a:rPr>
              <a:t>相关护理诊断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52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体温过高  与病原体感染、体温调节中枢功能障碍、自主神经功能紊乱等有关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营养失调：低于机体需要量  与营养摄入不足及发热使机体代谢率增加有关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口腔黏膜改变  与口腔黏膜干燥、局部体抗力下降有关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潜在并发症：意识障碍、惊厥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69" name="Picture 4" descr="人体五官矢量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596360" y="5518080"/>
            <a:ext cx="1144440" cy="98604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Verdana"/>
                <a:ea typeface="黑体"/>
              </a:rPr>
              <a:t>症状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定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个体患病时主观感受到的不适、痛苦的异常感觉或某些客观病态改变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意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对形成护理诊断、制订护理措施起着主导作用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为身体评估、辅助检查提供线索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6560" y="2781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第一节  发热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Verdana"/>
                <a:ea typeface="黑体"/>
              </a:rPr>
              <a:t>学习目标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识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解释发热、热型、急性发热和慢性发热的含义，发热分度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理解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列举发热的常见病因；解释发热机制；比较不同热型的临床特点及意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运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能够对患者作出全面准确的护理评估，并提出护理诊断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heel spokes="1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Verdana"/>
                <a:ea typeface="黑体"/>
              </a:rPr>
              <a:t>发热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定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3" name="Picture 4" descr=""/>
          <p:cNvPicPr/>
          <p:nvPr/>
        </p:nvPicPr>
        <p:blipFill>
          <a:blip r:embed="rId1"/>
          <a:srcRect l="0" t="10271" r="0" b="0"/>
          <a:stretch/>
        </p:blipFill>
        <p:spPr>
          <a:xfrm>
            <a:off x="557280" y="2206800"/>
            <a:ext cx="7975440" cy="42354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394920" y="1341360"/>
            <a:ext cx="662292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发生机制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致热原性发热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901"/>
              </a:spcBef>
              <a:buClr>
                <a:srgbClr val="046ca6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外源性致热原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901"/>
              </a:spcBef>
              <a:buClr>
                <a:srgbClr val="046ca6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内源性致热原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非致热原性发热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901"/>
              </a:spcBef>
              <a:buClr>
                <a:srgbClr val="046ca6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调节中枢受损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901"/>
              </a:spcBef>
              <a:buClr>
                <a:srgbClr val="046ca6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产热过多或散热过少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995640" y="2349000"/>
            <a:ext cx="4975200" cy="23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spcBef>
                <a:spcPts val="901"/>
              </a:spcBef>
              <a:buClr>
                <a:srgbClr val="046ca6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体温调定点上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spcBef>
                <a:spcPts val="901"/>
              </a:spcBef>
              <a:buClr>
                <a:srgbClr val="000000"/>
              </a:buClr>
              <a:buFont typeface="Wingdings" charset="2"/>
              <a:buChar char="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产热增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spcBef>
                <a:spcPts val="901"/>
              </a:spcBef>
              <a:buClr>
                <a:srgbClr val="000000"/>
              </a:buClr>
              <a:buFont typeface="Wingdings" charset="2"/>
              <a:buChar char="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散热减少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6" name="Picture 4" descr="医疗保健矢量图"/>
          <p:cNvPicPr/>
          <p:nvPr/>
        </p:nvPicPr>
        <p:blipFill>
          <a:blip r:embed="rId1"/>
          <a:srcRect l="8661" t="1639" r="7933" b="0"/>
          <a:stretch/>
        </p:blipFill>
        <p:spPr>
          <a:xfrm>
            <a:off x="7524720" y="5243400"/>
            <a:ext cx="1440000" cy="120816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5"/>
          <p:cNvSpPr/>
          <p:nvPr/>
        </p:nvSpPr>
        <p:spPr>
          <a:xfrm>
            <a:off x="4788000" y="2781360"/>
            <a:ext cx="144360" cy="1150920"/>
          </a:xfrm>
          <a:custGeom>
            <a:avLst/>
            <a:gdLst>
              <a:gd name="textAreaLeft" fmla="*/ 92160 w 144360"/>
              <a:gd name="textAreaRight" fmla="*/ 144360 w 144360"/>
              <a:gd name="textAreaTop" fmla="*/ 29880 h 1150920"/>
              <a:gd name="textAreaBottom" fmla="*/ 1121040 h 1150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375"/>
                </a:lnTo>
                <a:cubicBezTo>
                  <a:pt x="10800" y="9275"/>
                  <a:pt x="5400" y="10175"/>
                  <a:pt x="0" y="10175"/>
                </a:cubicBezTo>
                <a:cubicBezTo>
                  <a:pt x="5400" y="10175"/>
                  <a:pt x="10800" y="11075"/>
                  <a:pt x="10800" y="11975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Verdana"/>
                <a:ea typeface="黑体"/>
              </a:rPr>
              <a:t>发热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comb dir="ver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Verdana"/>
                <a:ea typeface="黑体"/>
              </a:rPr>
              <a:t>发热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常见病因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感染性发热    主要原因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非感染性发热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3708360" y="2781360"/>
            <a:ext cx="5111640" cy="34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体温调节中枢功能紊乱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无菌性坏死物质吸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皮肤散热障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内分泌与代谢障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抗原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抗体反应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自主神经功能紊乱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AutoShape 5"/>
          <p:cNvSpPr/>
          <p:nvPr/>
        </p:nvSpPr>
        <p:spPr>
          <a:xfrm>
            <a:off x="3924360" y="3213000"/>
            <a:ext cx="216000" cy="2737080"/>
          </a:xfrm>
          <a:custGeom>
            <a:avLst/>
            <a:gdLst>
              <a:gd name="textAreaLeft" fmla="*/ 137880 w 216000"/>
              <a:gd name="textAreaRight" fmla="*/ 216360 w 216000"/>
              <a:gd name="textAreaTop" fmla="*/ 71280 h 2737080"/>
              <a:gd name="textAreaBottom" fmla="*/ 2665800 h 2737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7502"/>
                </a:lnTo>
                <a:cubicBezTo>
                  <a:pt x="10800" y="8402"/>
                  <a:pt x="5400" y="9302"/>
                  <a:pt x="0" y="9302"/>
                </a:cubicBezTo>
                <a:cubicBezTo>
                  <a:pt x="5400" y="9302"/>
                  <a:pt x="10800" y="10202"/>
                  <a:pt x="10800" y="11102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Verdana"/>
                <a:ea typeface="黑体"/>
              </a:rPr>
              <a:t>发热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256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临床过程与特点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25" name="Organization Chart 4"/>
          <p:cNvGrpSpPr/>
          <p:nvPr/>
        </p:nvGrpSpPr>
        <p:grpSpPr>
          <a:xfrm>
            <a:off x="828720" y="2278080"/>
            <a:ext cx="7414920" cy="3886200"/>
            <a:chOff x="828720" y="2278080"/>
            <a:chExt cx="7414920" cy="3886200"/>
          </a:xfrm>
        </p:grpSpPr>
        <p:sp>
          <p:nvSpPr>
            <p:cNvPr id="126" name="_s1028"/>
            <p:cNvSpPr/>
            <p:nvPr/>
          </p:nvSpPr>
          <p:spPr>
            <a:xfrm>
              <a:off x="3423960" y="2278080"/>
              <a:ext cx="2224440" cy="155448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6b8b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发热过程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7" name="_s1029"/>
            <p:cNvSpPr/>
            <p:nvPr/>
          </p:nvSpPr>
          <p:spPr>
            <a:xfrm>
              <a:off x="828720" y="4609800"/>
              <a:ext cx="2224440" cy="155448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6b8b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上升期：皮肤苍白、畏寒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128" name="_s1030"/>
            <p:cNvCxnSpPr>
              <a:stCxn id="127" idx="0"/>
              <a:endCxn id="126" idx="2"/>
            </p:cNvCxnSpPr>
            <p:nvPr/>
          </p:nvCxnSpPr>
          <p:spPr>
            <a:xfrm flipH="1" flipV="1" rot="5400000">
              <a:off x="2849400" y="2922840"/>
              <a:ext cx="777960" cy="2595960"/>
            </a:xfrm>
            <a:prstGeom prst="bentConnector3">
              <a:avLst>
                <a:gd name="adj1" fmla="val 40000"/>
              </a:avLst>
            </a:prstGeom>
            <a:ln w="28440">
              <a:solidFill>
                <a:srgbClr val="8face8"/>
              </a:solidFill>
              <a:miter/>
            </a:ln>
          </p:spPr>
        </p:cxnSp>
        <p:sp>
          <p:nvSpPr>
            <p:cNvPr id="129" name="_s1031"/>
            <p:cNvSpPr/>
            <p:nvPr/>
          </p:nvSpPr>
          <p:spPr>
            <a:xfrm>
              <a:off x="3423960" y="4609800"/>
              <a:ext cx="2224440" cy="155448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6b8b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高热期：皮肤潮红、灼热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130" name="_s1032"/>
            <p:cNvCxnSpPr>
              <a:stCxn id="129" idx="0"/>
              <a:endCxn id="126" idx="2"/>
            </p:cNvCxnSpPr>
            <p:nvPr/>
          </p:nvCxnSpPr>
          <p:spPr>
            <a:xfrm flipH="1" flipV="1" rot="5400000">
              <a:off x="4138200" y="4209480"/>
              <a:ext cx="777960" cy="13320"/>
            </a:xfrm>
            <a:prstGeom prst="bentConnector2">
              <a:avLst/>
            </a:prstGeom>
            <a:ln w="28440">
              <a:solidFill>
                <a:srgbClr val="8face8"/>
              </a:solidFill>
              <a:miter/>
            </a:ln>
          </p:spPr>
        </p:cxnSp>
        <p:sp>
          <p:nvSpPr>
            <p:cNvPr id="131" name="_s1033"/>
            <p:cNvSpPr/>
            <p:nvPr/>
          </p:nvSpPr>
          <p:spPr>
            <a:xfrm>
              <a:off x="6019200" y="4609800"/>
              <a:ext cx="2224440" cy="155448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6b8b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下降期：出汗、皮肤潮湿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132" name="_s1034"/>
            <p:cNvCxnSpPr>
              <a:stCxn id="131" idx="0"/>
              <a:endCxn id="126" idx="2"/>
            </p:cNvCxnSpPr>
            <p:nvPr/>
          </p:nvCxnSpPr>
          <p:spPr>
            <a:xfrm flipV="1" rot="16200000">
              <a:off x="5444280" y="2922840"/>
              <a:ext cx="777960" cy="2595960"/>
            </a:xfrm>
            <a:prstGeom prst="bentConnector3">
              <a:avLst>
                <a:gd name="adj1" fmla="val 40000"/>
              </a:avLst>
            </a:prstGeom>
            <a:ln w="28440">
              <a:solidFill>
                <a:srgbClr val="8face8"/>
              </a:solidFill>
              <a:miter/>
            </a:ln>
          </p:spPr>
        </p:cxnSp>
      </p:grpSp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Verdana"/>
                <a:ea typeface="黑体"/>
              </a:rPr>
              <a:t>发热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8659800" cy="515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临床分度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口腔温度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热程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急性发热：起病急；＜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周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长期发热：＞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周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Rectangle 4"/>
          <p:cNvSpPr/>
          <p:nvPr/>
        </p:nvSpPr>
        <p:spPr>
          <a:xfrm>
            <a:off x="2844720" y="1844640"/>
            <a:ext cx="6048360" cy="25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低热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:37.3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宋体"/>
              </a:rPr>
              <a:t>～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38℃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中等度热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:38.1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宋体"/>
              </a:rPr>
              <a:t>～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39℃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高热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:39.1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宋体"/>
              </a:rPr>
              <a:t>～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41℃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超高热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＞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41℃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AutoShape 5"/>
          <p:cNvSpPr/>
          <p:nvPr/>
        </p:nvSpPr>
        <p:spPr>
          <a:xfrm>
            <a:off x="3132000" y="2349360"/>
            <a:ext cx="144720" cy="1368720"/>
          </a:xfrm>
          <a:custGeom>
            <a:avLst/>
            <a:gdLst>
              <a:gd name="textAreaLeft" fmla="*/ 92520 w 144720"/>
              <a:gd name="textAreaRight" fmla="*/ 145080 w 144720"/>
              <a:gd name="textAreaTop" fmla="*/ 35640 h 1368720"/>
              <a:gd name="textAreaBottom" fmla="*/ 1333080 h 1368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7" name="Picture 6" descr=""/>
          <p:cNvPicPr/>
          <p:nvPr/>
        </p:nvPicPr>
        <p:blipFill>
          <a:blip r:embed="rId1"/>
          <a:stretch/>
        </p:blipFill>
        <p:spPr>
          <a:xfrm>
            <a:off x="8029440" y="4365720"/>
            <a:ext cx="895320" cy="20955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5200"/>
                            </p:stCondLst>
                            <p:childTnLst>
                              <p:par>
                                <p:cTn id="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cp:keywords/>
  <dc:language>en-US</dc:language>
  <cp:lastModifiedBy>赵欣</cp:lastModifiedBy>
  <dcterms:modified xsi:type="dcterms:W3CDTF">2015-12-16T07:24:53Z</dcterms:modified>
  <cp:revision>79</cp:revision>
  <dc:subject/>
  <dc:title>内科护理学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93</vt:lpwstr>
  </property>
</Properties>
</file>